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F7001-5757-4443-9FDA-DB6790EAC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EA247-CE4C-406D-B261-A6D24097C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E7E21-13AB-4769-A26D-55A5F9A30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B98B5-3504-4CB1-90CE-688472AF0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FCECAD-365F-43BD-BC97-BD6E145A87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C2C9B-CD38-46A9-B88F-7F7804ADB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9F148-F463-4A07-835E-5FF53152F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A6438-7858-4C34-896B-A47AEF7CC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60AC9-4AB4-4459-8B25-2953FA092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1AAD3-6243-43B2-AB18-A11260E01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68D60-EB88-4E79-ADF7-104420BA1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D4408-F86A-4314-8BE9-CEDAA1E60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94708-5AA7-452A-AB9E-D521BBF5E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ADF64-A9B1-4B86-AAAF-625B9E395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56FAC-F787-447F-8979-0A1633B4E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E36228-9255-42D9-8506-C6975B5C6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82B02-D3A5-4D8F-AFDF-6B052BB4BE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C3C053-175E-497C-916E-B6243159CC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5B879C-3248-4554-AB27-5AE28AEC8E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434BD5-C71A-4561-B4BA-62B9AB7BCC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74F25D-AC18-4FED-9BF0-CFA20FDDE0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8E1473-2CEA-464B-9D92-647361FB22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F9055-1CAC-4470-AFB7-FABC277FD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0C144A-FD06-4A2E-9287-8F03583009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5ECD7F-EE1E-493C-BA16-DB976F4B46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C7ED5B-B6D7-4507-8214-A1CCAF189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96C47A-F43B-4688-8843-638CC8116F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89EE4D-73A3-4D84-AAC4-E3487E3815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26D068-6370-47F5-8027-08DBCD97D9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CD0F36-F4FB-48F3-9602-265EDE5936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7170F5-C638-45A9-8AC7-ADD1803BE3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980C74-78B5-4FA8-9E73-45AF0D418D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5AEA0A-0FB8-4C6C-8ECF-4E84BAEB7C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B0848-11DE-400C-A9B5-073BFA276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E73ABF-4F4D-4682-A1F6-321B6D40EF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B63D59-31EE-486C-9378-09731F9810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21E265-12BF-404F-ABE3-BC1834A5BD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6A6D10-FF47-4CE6-869F-9EF96BD5E4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1F130C-0C2C-4FFC-9F82-774199F868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2DE17-FFC3-4DA9-AA60-2D26425E15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E16811-F531-4E32-B8CF-11D66AB642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64FACD-965E-491E-8BFB-C608AEFDE7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D0900D-DCC8-4B8B-89AC-E1C1C8529F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A86C7-37B0-4518-931C-4E2ABB96A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62094-2EFC-4CF2-A6C4-3A51A54AA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125A7-D54B-439F-A26C-BD55B52F7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1D15E-CAE2-478F-B6A0-EDC1F333D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7DBA2-9F69-40A3-A4D2-5EA731D03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9A3233-914F-405F-BD7F-E3D6C7FA4877}"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A9A9F5-BD6B-4899-A7BE-4AB519343C7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C8BC9-8F0A-4258-BB6C-48BFDA570D10}" type="datetime">
              <a:rPr b="0" lang="en-US" sz="1200" spc="-1" strike="noStrike">
                <a:solidFill>
                  <a:srgbClr val="d1eaee"/>
                </a:solidFill>
                <a:latin typeface="Constantia"/>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2757F2-B265-4C96-A65A-71E86D03AE23}"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3AE60F-5898-438C-BB29-3A5429FC45C7}" type="datetime">
              <a:rPr b="0" lang="en-US" sz="1200" spc="-1" strike="noStrike">
                <a:solidFill>
                  <a:srgbClr val="d1eaee"/>
                </a:solidFill>
                <a:latin typeface="Constantia"/>
              </a:rPr>
              <a:t>07/29/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4DF642-758E-4165-B23D-0F561489FBBF}"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6BC734-0CC0-4676-B650-359D408AF7C4}"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20CF5-DE76-42B1-8328-08EAD292E15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Title 1" descr=""/>
          <p:cNvPicPr/>
          <p:nvPr/>
        </p:nvPicPr>
        <p:blipFill>
          <a:blip r:embed="rId2"/>
          <a:stretch/>
        </p:blipFill>
        <p:spPr>
          <a:xfrm>
            <a:off x="682560" y="244440"/>
            <a:ext cx="7815240" cy="1017720"/>
          </a:xfrm>
          <a:prstGeom prst="rect">
            <a:avLst/>
          </a:prstGeom>
          <a:ln w="0">
            <a:noFill/>
          </a:ln>
        </p:spPr>
      </p:pic>
      <p:sp>
        <p:nvSpPr>
          <p:cNvPr id="196" name="PlaceHolder 1"/>
          <p:cNvSpPr>
            <a:spLocks noGrp="1"/>
          </p:cNvSpPr>
          <p:nvPr>
            <p:ph type="subTitle"/>
          </p:nvPr>
        </p:nvSpPr>
        <p:spPr>
          <a:xfrm>
            <a:off x="685800" y="1154160"/>
            <a:ext cx="7772400" cy="524016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alf of your group will be reading an article on the Cambodian genocide and half will be reading an article on the Armenian genocide.  While reading complete your graphic organizer.  When all members of your group are done you can then TEACH each other about what you learned.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e will do a quick debrief as a whole class before we move on to our survivor stories of the day.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770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Armenian Genocide </a:t>
            </a:r>
            <a:endParaRPr b="0" lang="en-US" sz="3600" spc="-1" strike="noStrike">
              <a:solidFill>
                <a:srgbClr val="04617b"/>
              </a:solidFill>
              <a:latin typeface="Calibri"/>
            </a:endParaRPr>
          </a:p>
        </p:txBody>
      </p:sp>
      <p:sp>
        <p:nvSpPr>
          <p:cNvPr id="198" name=""/>
          <p:cNvSpPr txBox="1"/>
          <p:nvPr/>
        </p:nvSpPr>
        <p:spPr>
          <a:xfrm>
            <a:off x="0" y="769680"/>
            <a:ext cx="9144000" cy="555444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ppressor: Ottoman Gov. (Turkish Gov.- “Young Turks”)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Victim: Armenian citizens (Christian)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ere and When: 1915-1923 (during WWI) in Turkey/ Armenia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happened? Turkish gov. was pursuing the goal of exterminating the Armenian race.  The deported them to the deserts in Syria/ Mesopotamia (Iraq) and abandoned them to die.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y?</a:t>
            </a:r>
            <a:endParaRPr b="0" lang="en-US" sz="20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1)  Armenians wanted political reforms, this angered the Turkish gov.</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2) In WWI the Turkish gov (Ottoman Empire) supports Germany while the Armenians support Russia.  </a:t>
            </a:r>
            <a:endParaRPr b="0" lang="en-US" sz="18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hocking details -  The Turkish gov. still denies that this genocide occurred!! Even though approximately 1 million died.  Hitler references how “no one really cared about the Armenians” to justify his invasion of Poland!!! (MESSED UP!!)</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nded? – Armenia joined the USSR ( Soviet Union) in 1922.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482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Cambodian Genocide </a:t>
            </a:r>
            <a:endParaRPr b="0" lang="en-US" sz="2900" spc="-1" strike="noStrike">
              <a:solidFill>
                <a:srgbClr val="04617b"/>
              </a:solidFill>
              <a:latin typeface="Calibri"/>
            </a:endParaRPr>
          </a:p>
        </p:txBody>
      </p:sp>
      <p:sp>
        <p:nvSpPr>
          <p:cNvPr id="200" name=""/>
          <p:cNvSpPr txBox="1"/>
          <p:nvPr/>
        </p:nvSpPr>
        <p:spPr>
          <a:xfrm>
            <a:off x="0" y="482400"/>
            <a:ext cx="9144000" cy="67942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ppressor: Khmer Rouge (leader was Pol Po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ictim: All Cambodians (focused on people who opposed the gov, the educated, disabled, and people of minority groups)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here and When: 1975-1979 in Cambodia!</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hat happened? </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olitical and civil rights abolished, shut down factories and schools. </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urdered all professionals (lawyers, doctors, teachers) </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nned religion (killed Buddhist monks)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hy? He was trying to reconstruct Cambodia into a communist country, modeled after Mao Ze Dong’s China.</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hocking detail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most 2 million died from executions, diseases, exhaustion and starvation </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uld be killed for wearing glasses, speaking another language, laughing or crying. </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 should watch “The Killing Fields” it live streams on Netflix!!!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nded? – in 1978-1989 Vietnam invades and pushed down the Khmer Rouge.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1993 – Prince Sihanouk is elected in democratic elections. Cambodia becomes democratic.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2:37:34Z</dcterms:created>
  <dc:creator>NYCDOE</dc:creator>
  <dc:description/>
  <dc:language>en-US</dc:language>
  <cp:lastModifiedBy>NYCDOE</cp:lastModifiedBy>
  <dcterms:modified xsi:type="dcterms:W3CDTF">2012-03-13T14:28:00Z</dcterms:modified>
  <cp:revision>4</cp:revision>
  <dc:subject/>
  <dc:title>Group work directions</dc:title>
</cp:coreProperties>
</file>